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113F1-1907-45CE-B2BF-EBB0FCC97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EEB50-628F-4796-BC88-ED09133A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73528-692D-4C74-99D2-20116BFF6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A63A0-316B-40D7-A254-5E1402248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234B-1A76-4889-9F3B-078EA4AA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9F4F-A48D-486E-86D9-82E25806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9C37F-289B-4248-BD0B-8F992BBB6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2EE7D-6261-489B-94B3-8A0290D47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8569-4DC1-4360-90D4-4CFE802C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EFED1-DCF1-401D-BC81-01B57F99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EC8F-FB6B-4D81-B93C-25F93B397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C07C-A9EB-475D-B77A-26423639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9B87-D5F0-4A72-9E77-994659775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195720" y="3247920"/>
            <a:ext cx="2752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Sesiunea iunie-iulie</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68"/>
                                        <p:tgtEl>
                                          <p:spTgt spid="46"/>
                                        </p:tgtEl>
                                      </p:cBhvr>
                                    </p:animEffect>
                                    <p:animScale>
                                      <p:cBhvr>
                                        <p:cTn id="8" dur="768" fill="hold"/>
                                        <p:tgtEl>
                                          <p:spTgt spid="46"/>
                                        </p:tgtEl>
                                      </p:cBhvr>
                                      <p:from x="10000" y="10000"/>
                                      <p:to x="200000" y="450000"/>
                                    </p:animScale>
                                    <p:animScale>
                                      <p:cBhvr>
                                        <p:cTn id="9" dur="1230" fill="hold">
                                          <p:stCondLst>
                                            <p:cond delay="768"/>
                                          </p:stCondLst>
                                        </p:cTn>
                                        <p:tgtEl>
                                          <p:spTgt spid="46"/>
                                        </p:tgtEl>
                                      </p:cBhvr>
                                      <p:from x="200000" y="450000"/>
                                      <p:to x="100000" y="100000"/>
                                    </p:animScale>
                                    <p:set>
                                      <p:cBhvr>
                                        <p:cTn id="10" dur="768" fill="hold"/>
                                        <p:tgtEl>
                                          <p:spTgt spid="46"/>
                                        </p:tgtEl>
                                        <p:attrNameLst>
                                          <p:attrName>ppt_x</p:attrName>
                                        </p:attrNameLst>
                                      </p:cBhvr>
                                      <p:to>
                                        <p:strVal val="(0.5)"/>
                                      </p:to>
                                    </p:set>
                                    <p:anim calcmode="lin" valueType="num" from="(0.5)" to="(#ppt_x)">
                                      <p:cBhvr additive="repl">
                                        <p:cTn id="11" dur="1230" fill="hold">
                                          <p:stCondLst>
                                            <p:cond delay="768"/>
                                          </p:stCondLst>
                                        </p:cTn>
                                        <p:tgtEl>
                                          <p:spTgt spid="46"/>
                                        </p:tgtEl>
                                        <p:attrNameLst>
                                          <p:attrName>ppt_x</p:attrName>
                                        </p:attrNameLst>
                                      </p:cBhvr>
                                    </p:anim>
                                    <p:set>
                                      <p:cBhvr>
                                        <p:cTn id="12" dur="768" fill="hold"/>
                                        <p:tgtEl>
                                          <p:spTgt spid="46"/>
                                        </p:tgtEl>
                                        <p:attrNameLst>
                                          <p:attrName>ppt_y</p:attrName>
                                        </p:attrNameLst>
                                      </p:cBhvr>
                                      <p:to>
                                        <p:strVal val="(#ppt_y+0.4)"/>
                                      </p:to>
                                    </p:set>
                                    <p:anim calcmode="lin" valueType="num" from="(#ppt_y+0.4)" to="(#ppt_y)">
                                      <p:cBhvr additive="repl">
                                        <p:cTn id="13" dur="1230" fill="hold">
                                          <p:stCondLst>
                                            <p:cond delay="768"/>
                                          </p:stCondLst>
                                        </p:cTn>
                                        <p:tgtEl>
                                          <p:spTgt spid="4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8T10:57:02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